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E5E-2BE3-4553-B795-BAEC5DF3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FE0-9F98-4CF3-BB7E-D455965A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46F-58E3-41DD-A5D4-8402A355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45B-818A-4691-B9A8-221607D0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1C8-EAD6-479D-B4A7-C295256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BD7-BBBC-40E9-A20A-17A96C92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9D9-69D9-4642-B375-9C6C727B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AAA-EF87-4710-8618-7A5282C7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8B2-E35C-430D-889D-D7325D9C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5D8-868E-4C79-AC34-907DF1E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0D9-0B15-4634-8689-657D0E4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D71-C461-471A-A957-EF3430BA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48F-7F3B-41D3-A853-25AACA9F3ECC}" type="slidenum">
              <a:rPr b="0" lang="sr-R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scupstate.libguides.com/c.php?g=627058&amp;p=5348942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vbs.rs/cobiss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indeks.ceon.rs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oiserbia.nb.rs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kobson.nb.r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U konačnom spisku literature, reference se ređaju u nizu prema redosledu (broju) njihovog prvog pojavljivanja u teks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st E. Herbal medicinal products during pregnancy: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y safe? Brit J Obs Gy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2;109:227–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ichhorn T, Greten HJ, Efferth T. Self-medication with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supplements and herbal over-thecount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. Natural Products and Bioprospecting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;1:62-7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tno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da se pravilno koristi punktuacija i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je redosled prikazanih detalja reference isprava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Primer osnovne strukture reference za standardni članak u časopi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Prezime autora inicijali, Prezime autora inicijali. Naslov članka. Naziv časopisa [skraćen]. Godina publikacije;broj volumen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(broj sveske):brojevi stra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Mochi M, Sangiorgi S, Cortelli P, Carelli V, Scapoli C, Crisci M, et al. Testing models for genetic determination in migraine. Cephalalgia. 1993;13:389-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Navode se svi autori, a ukoliko ih je preko šest, navodi se prvih šest i dodaje «et al» ili «i dr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Za naslove časopisa koriste se skraćenice prema Listi indeksiranih casopisa (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</a:rPr>
              <a:t>List of Journals Indexed for Medline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) Indeks Medikusa (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</a:rPr>
              <a:t>Index Medicus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). Srpski časopisi koji se ne indeksiraju u ovoj publikaciji skraćuju se na osnovu Liste skraćenih naslova srpskih serijskih publikacija (www.scindeks.nb.rs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rednost ovog sistema je jednostavnost referenci u tekstu, a nedostatak je otežano ubacivanje ili izbacivanje novih referen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U sistemu citiranja koji koristi arapske cifre za označavanje određene reference u tekstu broj reference se piše, pre ili posle interpunkcijskog znaka, u zagradi: (1), [1], ili kao superskript: </a:t>
            </a:r>
            <a:r>
              <a:rPr b="0" lang="sr-R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Harvardski sistem (autor-datum si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propisuje navođenje prezimena autora i godi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publikacij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fossil resources and severe environmental problems ″require new sustainabl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generation options″ (Zhao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8 p. 3).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samom tekstu, poželjno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je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 ali ne i obavezno, na kraju recen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Ako postoje dva autora potrebno je upisati prezimena oba (bez inicijala) i godinu (npr. Smith and Mauri, 2007). Ako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h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ima viš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upisuje se samo prezime prvog autora i dodaje rečca «i dr» (i drugi) za domaću literaturu ili «et al» (i drugi) za literaturu na engleskom jezi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7640" y="33336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Pri citiranju dve ili više referenci istog autora iz iste godine, na prvom citiranom mestu u tekstu, uz godinu publikovanja, dodaje se «a», zatim «b»,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«Suo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avamo se sa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injenicom da kardiovaskularne bolesti izazivaju skoro polovinu svih smrtnih ishoda u razvijenom svetu (Morrow, 2008a). Naj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ešci oblik s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ane bolesti je ishemijska bolest srca koja predstavlja i vodeci uzrok smrtnosti širom sveta (Morrow, 2008b).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: Autori citirani u teks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 of O’Brien &amp; Ryan (2001) stresses the importance of renewable energy for th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uvenation of econo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U spisku literature, redosled referenci se navodi abecednim redosledom, prema prezimenu prvog autor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1. Ardissino D, Cavallini C, Bramucci E, et al (2004). Sirolimus-eluting vs uncoated stents for prevention of restenosis in small coronary arteries. JAMA 292(22):2727-3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2. Bavry AA, Bhatt DL (2008). Appropriate use of drug-eluting stents: balancing the reduction in restenosis with the concern of late thrombosis. Lancet 371: 2134-4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3. Colombo A, Drzewiecki J, Banning A, et al (2003). Randomized study to assess the effectiveness of slow- and moderate-release polymer- based paclitaxel-eluting stents for coronary artery lesions. Circulation 108(7):788-79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Reference nisu numerisane, pa se relativno lako mogu ubaciti, odnosno izbaciti iz teksta, ali je komplikovano navođenje referenci u tekstu, kao i njihovo pronalaženje u popisu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Indeks medicus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je baza bibliografskih podataka naučnih časopisa u oblasti bio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PRIMERI CITIRANJA LITERATURE PREMA VANKUVERSKOM SIST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1. Standardni članak u časopi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Navesti prvih šest autora i dodati «et al» (napomena: NLM - 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National Library of Medicin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sada navodi sve aut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Halpern SD, Ubel PA, Caplan AL. Solid-organ transplantation in HIV-infected patients. N Engl J Med. 2002 Jul 25;347(4):284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Kao opcija: ukoliko časopis ima kontinuiranu paginaciju u celom volumenu (kao što vecina medicinskih casopisa ima) mesec i broj se mogu izostav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Halpern SD, Ubel PA, Caplan AL. Solid-organ transplantation in HIV-infected patients. N Engl J Med. 2002;347:284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Moguće je dodati i jedinstveni broj u bazi podataka za cit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Halpern SD, Ubel PA, Caplan AL. Solid-organ transplantation in HIV-infected patients. N Engl J Med. 2002 Jul 25;347(4):284-7. Cited in PubMed; PMID 121403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Više od šest aut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Rose ME, Huerbin MB, Melick J, Marion DW, Palmer AM, Schiding JK, et al. Regulation of interstitial excitatory amino acid concentrations after cortical contusion injury. Brain Res. 2002;935(1-2):40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</a:rPr>
              <a:t>2. Organizacija kao au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Diabetes Prevention Program Research Group. Hypertension, insulin, and proinsulin in participants with impaired glucose tolerance. Hypertension. 2002;40(5):679-8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600" spc="-1" strike="noStrike">
                <a:solidFill>
                  <a:srgbClr val="000000"/>
                </a:solidFill>
                <a:latin typeface="Arial"/>
              </a:rPr>
              <a:t>3. I autor (kao osoba) i organizacija kao au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(ovaj primer ne odgovara NISO standardi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Vallancien G, Emberton M, Harving N, van Moorselaar RJ; Alf-One Study Group. Sexual dysfunction in 1,274 European men suffering from lower urinary tract symptoms. J Urol. 2003;169(6):2257-6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ŠTA ZNAČI CITIRANJE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standardizovan metod prikazivanja izvora informacija i ideja koje se koriste u pisanju naučnog rada, i to na jedinstveni način koji identifikuje njihove izv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scupstate.libguides.com/c.php?g=627058&amp;p=53489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4. Nisu navedeni au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21st century heart solution may have a sting in the tail. BMJ. 2002;325(7357):18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5. Č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lanak koji nije na engleskom jez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Napomena: NLM prevodi naslov na engleski jezik, prila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prevod u kvadratnoj zagradi i dodaje skracenu jezič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ozna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Ellingsen AE, Wilhelmsen I. Sykdomsangst blant medisin-og jusstudenter. Tidsskr Nor Laegeforen. 2002;122(8):785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6. Volumen sa suplemen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Geraud G, Spierings EL, Keywood C. Tolerability and safety of frovatriptan with short- and long-term use for treatment of migraine and in comparison with sumatriptan. Headache. 2002;42 Suppl 2:S93-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Sveska sa suplemen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Glauser TA. Integrating clinical trial data into clinical practice. Neurology. 2002;58(12 Suppl 7):S6-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8. Naveden tip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lanka ukoliko je potreb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Tor M, Turker H. International approaches to the prescription of long-term oxygen therapy [letter]. Eur Respir J. 2002;20(1):2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Vrlo sažet prikaz naunog istraživ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2.  Knjige i druge monograf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utor je osoba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Murray PR, Rosenthal KS, Kobayashi GS, Pfaller MA. Medical microbiology. 4th ed. St. Louis: Mosby;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2. Urednik(ci) kao au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Gilstrap LC 3rd, Cunningham FG, VanDorsten JP, editors. Operative obstetrics. 2nd ed. New York: McGraw-Hill;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3. Autor(i) i urednik(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Breedlove GK, Schorfheide AM. Adolescent pregnancy. 2nd ed. Wieczorek RR, editor. White Plains (NY): March of Dimes Education Services;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4. Organizacija(e) kao a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Royal Adelaide Hospital; University of Adelaide, Department of Clinical Nursing. Compendium of nursing research and practice development, 1999-2000. Adelaide (Australia): Adelaide University; 20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5. Poglavlje u knji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Meltzer PS, Kallioniemi A, Trent JM. Chromosome alterations in human solid tumors. In: Vogelstein B, Kinzler KW, editors. The genetic basis of human cancer. New York: McGraw-Hill; 2002. p. 93-1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6. Disert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Borkowski MM. Infant sleep and feeding: a telephone survey of Hispanic Americans [dissertation]. Mount Pleasant (MI): Central Michigan University;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7. Saopštenja sa sastana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Harnden P, Joffe JK, Jones WG, editors. Germ cell tumours V. Proceedings of the 5th Germ Cell Tumour Conference; 2001 Sep 13-15; Leeds, UK. New York: Springer;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3. Neobjavljeni materij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U šta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napomena: NLM radije koristi "predstojeci" jer nece s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članci biti štampa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Tian D, Araki H, Stahl E, Bergelson J, Kreitman M. Signature of balancing selection in Arabidopsis. Proc Natl Acad Sci U S A. In press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4. Elektronski materij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Anderson SC, Poulsen KB. Anderson's electronic atlas of hematology [CD-ROM]. Philadelphia: Lippincott Williams &amp; Wilkins;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lanak u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asopisu na intern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Abood S. Quality improvement initiative in nursing homes: the ANA acts in an advisory role. Am J Nurs [serial on the Internet]. 2002 Jun [cited 2002 Aug 12];102(6):[about 3 p.]. Available from: http://www.nursingworld.org/AJN/2002/june/Wawatc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Gde se najčešće nalaze bibliografski podaci izvora koje koristim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Bibliografski podaci koje navodimo u akademskom radu dostupni su nam unutar same knjige, časopisa, zbornika, onlajn artikla i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Npr. ukoliko posedujemo štampani primerak knjige koju navodimo kao korišćeni izvor, potražićemo </a:t>
            </a:r>
            <a:r>
              <a:rPr b="0" i="1" lang="sr-RS" sz="2800" spc="-1" strike="noStrike">
                <a:solidFill>
                  <a:srgbClr val="000000"/>
                </a:solidFill>
                <a:latin typeface="Arial"/>
              </a:rPr>
              <a:t>CIP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kataloški zapis, koji se obično nalazi na samom početku ili kraju knji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258920" y="322200"/>
            <a:ext cx="632304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Razlike između liste referenci i bibliografi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Lista referenci identifikuje samo one izvore koji su navedeni (citirani) u tekstu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Bibliografija se prezentuje u istom formatu kao i lista referenci, ali ona obuhvata sav materijal koji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mo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konsultovali prilikom pripreme zadat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Drugim rečima, bibliografija prikazuje iste izvore kao 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lista referenci, ali takođe obuhvata i sve ostale izvore koje 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pročitali ili konsultovali, ali ih ni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nave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LINKOVI DOMAĆIH NAJĆEŠĆE KORIŠĆENIH INTERNET SERVISA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bs.rs/cob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Arial"/>
              </a:rPr>
              <a:t>COBISS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(Kooperativni </a:t>
            </a:r>
            <a:r>
              <a:rPr b="0" i="1" lang="sr-RS" sz="28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bibliografski sistem i servisi) - bibliografsko-kataloška baza podataka više od 150 biblioteka u Srbiji. Ovaj sistem sadrži bazu podataka o više od 2.614.000 bibliografskih jedinica (identifikacije tih jedinica, njihov raspored po bibliotekama i trenutni status – u biblioteci ili na pozajmici; dostupno samo u čitaonici ili moguće korišćenje van biblioteke).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ndeks.ceon.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Na sajtu Srpskog citatnog indeksa (</a:t>
            </a: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SCIndeks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) su referisani gotovo svi radovi iz domaćih naučnih časopisa u poslednjih desetak godina. Pored osnovnih identifikacionih podataka o članku, na sajtu su sadržani apstrakti radova i veoma često i ceo rad u </a:t>
            </a: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formatu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ZAŠTO CITIRATI LITERATU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rikaz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uju s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zasluge autora drugih radova, bilo da se autor sa njima slaže ili 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orišćenjem navodnika i citiranj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itaocima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pokaz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materijal na kome je bazirana analiza, diskusija ili zaključ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otpuno opisuje izvore podataka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naučnog rada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Citiranje literature obezbeđuje bibliografsku informaciju (autor, naslov, godina publikacije,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broj stranice, i dr.) o izvoru jedne id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oiserbia.nb.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Na sajtu DOI Srbija sadržani su puni tekstovi svih domaćih naučnih članka koji imaju </a:t>
            </a: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DOI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Digital Object Identifier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) broj.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obson.nb.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Konzorcijum biblioteka Srbije za objedinjenu nabavku (</a:t>
            </a:r>
            <a:r>
              <a:rPr b="0" i="1" lang="sr-RS" sz="2800" spc="-1" strike="noStrike">
                <a:solidFill>
                  <a:srgbClr val="000000"/>
                </a:solidFill>
                <a:latin typeface="Arial"/>
              </a:rPr>
              <a:t>KoBSON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 je razvio servis koji korisnicima akademske mreže (biblioteke fakulteta ili univerziteta) omogućava besplatan pristup naučnim radovima u punom tekstu iz gotovo svih časopisa sa </a:t>
            </a:r>
            <a:r>
              <a:rPr b="0" i="1" lang="sr-RS" sz="2800" spc="-1" strike="noStrike">
                <a:solidFill>
                  <a:srgbClr val="000000"/>
                </a:solidFill>
                <a:latin typeface="Arial"/>
              </a:rPr>
              <a:t>SCI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RS" sz="2800" spc="-1" strike="noStrike">
                <a:solidFill>
                  <a:srgbClr val="000000"/>
                </a:solidFill>
                <a:latin typeface="Arial"/>
              </a:rPr>
              <a:t>Science citation index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) liste. Preko Kobsona se takođe mogu pretraživati domaći i strani repozitorijumi odbranjenih master, magistarskih i doktorskih teza.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Indeks citiranosti predstavlja pokazatelj zainteresovanosti akademske zajednice za nekog naučnika i/ili njegov rad, ali i indikator uticaja (pozitivnog ili negativnog) koji taj autor i/ili njegov rad imaju u naučno-istraživačkoj delat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Citiranje je kriterijum i za ispitivanje uticajnosti naučnih časopisa, koji se na osnovu indeksa citiranosti svrstavaju u određene kategorije (M21, M22, M23, M24, M51, M52 i M5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naučni plagij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Prikazivanje tuđeg rada ili dela tuđeg rada kao vlastitog predstavlja kršenje autorskih prava definisani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kon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autorskom i srodnim pravima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„Sl. glasnik RS”,br. 104/09, 99/11, 119/12 i 29/16 – odluka 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Pravilnim navođenjem korišćenih izvora razvija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kultur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citiranja i korektan kolegijalni odnos sa drugim autorima od kojih, po dobrom akademskom običaju, zahtevamo 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SISTEMI CITIRANJA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iše prihvaćenih sistema citiranja literature. Pojedine nauke, prema svojim potrebama, oblikuju citiranje literature iz različitih izvora gradeći svaka svoje standarde (Chicago, Harvard, Turabian, APA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</a:rPr>
              <a:t>-American Physological Association,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MLA-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</a:rPr>
              <a:t>Modern Language Association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, AMA-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</a:rPr>
              <a:t>American Medical Association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i dr.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vaki časopis je opredeljen za neki od nji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itiranje tačnih podataka i 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</a:rPr>
              <a:t>jednoobraznost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STEM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ITIRANJA LITERA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va glavna sistema citiranja literature koja se koriste u većini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asopisa i knjiga iz oblasti medicin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Vankuverski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Harvardski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sistem citiranja liter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nogi časopisi imaju i svoj lični stil koji uvodi i specificne varijacije u ove opšte standa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Vankuverski sistem (autor-broj siste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Vankuverski sistem je dobio ime prema radnoj grupi – Meunarodnom udruženju urednika medicinskih časopisa (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International Committee of Medical Journal Editor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ICMJ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, čiji je prvi sastanak održan u Vankuveru 1978. god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umerički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nacin citiranja, a format referenci preporučila je Nacionalna medicinska biblioteka Sjedinjenih americkih država (National Library of Medicine). Ova pravila usvojilo je Međunarodno udruženje urednika medicinskih časopisa (ICMJE) kao deo 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jednoobraznih zahteva za pripremu rukopisa koji se podnose biomedicinskim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asopisim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Reference su označene arapskim brojevima u zagradi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prema redosledu pojavljivanja u teks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Serbian law on medicines an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evices, herbal drug is any medicinal product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active ingredients are exclusively one or more plantsubstances or one or more herbal preparations or one or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nt substances in combination with one or mor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bal preparations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Ako se neka referenca citira i kasnije u tekstu, ima isti re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bro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U tekstu se može navesti i autor u slučaju kada tr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naglasiti baš određenog autor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Brown (2) je pokazao d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5:52:39Z</dcterms:created>
  <dc:creator>Sanja</dc:creator>
  <dc:description/>
  <dc:language>en-US</dc:language>
  <cp:lastModifiedBy>Majda</cp:lastModifiedBy>
  <dcterms:modified xsi:type="dcterms:W3CDTF">2020-03-20T05:10:58Z</dcterms:modified>
  <cp:revision>52</cp:revision>
  <dc:subject/>
  <dc:title>Slide 1</dc:title>
</cp:coreProperties>
</file>